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5DF6-5CFE-4257-912C-E1E8D5274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deo was to set the tone for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Joanne and I were planning we were trying to tie differentiation into RTI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on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know all about RTI....learning process.....but what I do know is that RTI is a good framework from within it is embedded with different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tervention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good instruction to reach all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research based i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 for how to embed differentiation ..... Emphasis on teach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 driven.....in the states it’s mandated federally, curriculum dr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 itself has three tiers.  Different things are happening in each t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EB43-AFDB-4272-9E4D-52D58CF1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79B90-531A-43D2-9411-4ABA3C84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79B6-9C0D-4F3C-97A0-8E6BD487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E7AB-A566-456D-B461-DB05E1E9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03BC-D942-490C-9B7D-FBF4AB8C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9B01-1804-48D2-8889-DD051CE2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D7D6-DECC-4AD4-A5BF-8924D817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FA94-F3AD-473C-B60D-2604BE02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4E19-C9D4-42B1-9A82-1091FFEC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DFB4-13F2-4628-9584-4E9E0997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C6EC-6CD6-45A4-9843-E7D0EA5F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90E7-A227-4E60-8A61-37DB787B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AD0D-5914-4F1C-99A6-DD1DCAD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3002-D7BE-445E-9238-8BE0C151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AFDB-3574-4C0E-8DC4-6761DFEE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37D2-4953-4632-BD86-1F3CE961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DCC4-F0AE-4159-B925-1E5D53CA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C15A-5FA7-4F90-9447-5DD75CF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93E4-A3AB-4CC1-9760-B33BCF62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A4B4-6FED-424D-BBCC-AFAB4B51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2EB4-17F1-4925-ABDC-D65BA747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A60E-FE61-4CFD-B40F-D43DC321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8632-31D0-4F6B-AEF7-2A0D97C0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CA47-6DBC-4228-8688-2E470DAD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4F1C-B84D-4B3B-89AE-7990F708F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2C7-E5C4-42DD-9AF7-F67A03B24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TI Review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tiation Group – Day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vember 17, 200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r 2: 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short-term interventions to those students demonstrating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support in addition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r 3: 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ive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e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requent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 of 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pg23 triangle"/>
          <p:cNvPicPr/>
          <p:nvPr/>
        </p:nvPicPr>
        <p:blipFill>
          <a:blip r:embed="rId1"/>
          <a:stretch/>
        </p:blipFill>
        <p:spPr>
          <a:xfrm>
            <a:off x="731880" y="2021040"/>
            <a:ext cx="76802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happening in your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...R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DO in your classroom about...RTI at the Universal level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 predicts reading 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are born with the innate ability to read and do m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ding and math programs are research ba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arning Disability is best determined when students are in second or third gr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of special ed support always shows student impro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es from Conven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instruction and then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r school become a community of learners that are intolerant of fail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instruction, RTI and PBIS prevent fail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is NO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-refer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increase or decrease special ed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checklist to determine a di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is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ltitier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ructi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vention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gress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ltitie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roach for maximizing studen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hie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provid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ven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re research based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gress moni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sures students are being successfu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is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ming Teacher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pg9 triangle"/>
          <p:cNvPicPr/>
          <p:nvPr/>
        </p:nvPicPr>
        <p:blipFill>
          <a:blip r:embed="rId1"/>
          <a:stretch/>
        </p:blipFill>
        <p:spPr>
          <a:xfrm>
            <a:off x="2068560" y="1981080"/>
            <a:ext cx="50054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pg9 triangle"/>
          <p:cNvPicPr/>
          <p:nvPr/>
        </p:nvPicPr>
        <p:blipFill>
          <a:blip r:embed="rId2"/>
          <a:stretch/>
        </p:blipFill>
        <p:spPr>
          <a:xfrm>
            <a:off x="1752480" y="1828800"/>
            <a:ext cx="5562720" cy="431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0200" y="29718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30481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736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r 1: 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based measurements (C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data against benchmarks with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ar and instruction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s within classroom setting by classroom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0:38:18Z</dcterms:created>
  <dc:creator>nancyschultz</dc:creator>
  <dc:description/>
  <dc:language>en-US</dc:language>
  <cp:lastModifiedBy>nancyschultz</cp:lastModifiedBy>
  <dcterms:modified xsi:type="dcterms:W3CDTF">2008-11-17T14:54:55Z</dcterms:modified>
  <cp:revision>11</cp:revision>
  <dc:subject/>
  <dc:title>RTI Review</dc:title>
</cp:coreProperties>
</file>